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C3DC-CDAC-4E19-96DA-C996AAD4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AB0B-2AFF-4E09-9C48-4BEEC125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974D-155A-4872-8C3B-D7D62E149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0BFB-B800-4A0E-882A-7A961E52B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FB00-760C-4A0B-BF9D-3FC92C882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D5B0-0F0B-4D4B-A538-3DAE5475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6880-F6B8-4D13-B7E7-6583111D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36FD-13C5-42E4-A99C-BEFA8B4E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F7BF-0E99-4D51-8C13-3BF55055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AF4A-919C-4923-B83E-A01F2EB4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BFB3-DEDD-4D96-8F27-2B2F526D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08A8-1688-42F6-9E2D-A7560E8C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395E-9DA8-4844-9662-5EE15245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E686-E276-4899-BB55-85CC3156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839A-41C7-485B-8C1A-484C583B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EFD1-454F-40BF-9857-B732B924E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E4EA-ABBC-4801-9FDC-470B727FB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2FBF-00DB-4EE3-AE1E-F40A7A86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68C1-A71C-4E79-B458-11AB3534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DC51-E243-4285-8803-2563D2B5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277F-4726-4D41-A457-F2CC4D49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4589-B8C5-4A75-942C-801057FA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78B1-C25A-4F48-9CD8-4A2CABDC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B8ED-E9D0-4045-84A8-74705886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37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3e7"/>
                    </a:gs>
                    <a:gs pos="100000">
                      <a:srgbClr val="9f237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03e7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03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9740-159A-4A85-A292-87E633EC10A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f237f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9f237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03e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03e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E7AB-3581-49A9-9C9F-F4D275C2017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oli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By Khay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5e is learning abou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0" y="4514760"/>
            <a:ext cx="2050920" cy="23432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Police"/>
          <p:cNvPicPr/>
          <p:nvPr/>
        </p:nvPicPr>
        <p:blipFill>
          <a:blip r:embed="rId2"/>
          <a:stretch/>
        </p:blipFill>
        <p:spPr>
          <a:xfrm>
            <a:off x="7715160" y="5743440"/>
            <a:ext cx="1428840" cy="11145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340000" cy="149868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oli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can help peopl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have lots of job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have lots of car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can catch robber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can run very fas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2987640" y="5006880"/>
            <a:ext cx="3809880" cy="18511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71640" cy="187488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Weap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have weapon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Hand Cuffs and hand cuffs ke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Guns and taz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epper spra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381560" y="3695760"/>
            <a:ext cx="4762440" cy="316224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olice Do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dogs German Shepher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dogs are very special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dogs comes from a litt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dogs have a useful nose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4" name="" descr="police clip art 13"/>
          <p:cNvPicPr/>
          <p:nvPr/>
        </p:nvPicPr>
        <p:blipFill>
          <a:blip r:embed="rId1"/>
          <a:stretch/>
        </p:blipFill>
        <p:spPr>
          <a:xfrm>
            <a:off x="684360" y="4653000"/>
            <a:ext cx="1180800" cy="13762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2050920" y="4724280"/>
            <a:ext cx="2521080" cy="11937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5651640" y="4589640"/>
            <a:ext cx="3024000" cy="226836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02:28:04Z</dcterms:created>
  <dc:creator>5e24</dc:creator>
  <dc:description/>
  <dc:language>en-US</dc:language>
  <cp:lastModifiedBy>5e24</cp:lastModifiedBy>
  <dcterms:modified xsi:type="dcterms:W3CDTF">2011-09-08T00:27:55Z</dcterms:modified>
  <cp:revision>6</cp:revision>
  <dc:subject/>
  <dc:title>police</dc:title>
</cp:coreProperties>
</file>